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2C3-61D9-4D20-B5AE-EBC07D0A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699080"/>
                <a:tab algn="l" pos="9398160"/>
              </a:tabLst>
            </a:pPr>
            <a:endParaRPr b="0" lang="en-US" sz="2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202-7CAC-43BD-95E7-4B6F4231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699080"/>
                <a:tab algn="l" pos="9398160"/>
              </a:tabLst>
            </a:pPr>
            <a:endParaRPr b="0" lang="en-US" sz="2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40F-6173-4642-AF95-4F8CF362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699080"/>
                <a:tab algn="l" pos="9398160"/>
              </a:tabLst>
            </a:pPr>
            <a:endParaRPr b="0" lang="en-US" sz="2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90588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519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92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90588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519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114-F9F6-40E9-A1E6-02686A4F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699080"/>
                <a:tab algn="l" pos="9398160"/>
              </a:tabLst>
            </a:pPr>
            <a:endParaRPr b="0" lang="en-US" sz="2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124"/>
              </a:spcBef>
              <a:buNone/>
              <a:tabLst>
                <a:tab algn="l" pos="0"/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D80-AE86-4272-98CE-F1DBAC4E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699080"/>
                <a:tab algn="l" pos="9398160"/>
              </a:tabLst>
            </a:pPr>
            <a:endParaRPr b="0" lang="en-US" sz="2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460-9324-4E82-90FE-19AA2DAA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699080"/>
                <a:tab algn="l" pos="9398160"/>
              </a:tabLst>
            </a:pPr>
            <a:endParaRPr b="0" lang="en-US" sz="2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B3F-1267-44E6-B254-D90AE113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699080"/>
                <a:tab algn="l" pos="9398160"/>
              </a:tabLst>
            </a:pPr>
            <a:endParaRPr b="0" lang="en-US" sz="2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41A-32E7-4A9D-8291-EB340F2C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92560" y="2925720"/>
            <a:ext cx="3730608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124"/>
              </a:spcBef>
              <a:tabLst>
                <a:tab algn="l" pos="0"/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698-B95F-4C30-BF10-D2801D57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699080"/>
                <a:tab algn="l" pos="9398160"/>
              </a:tabLst>
            </a:pPr>
            <a:endParaRPr b="0" lang="en-US" sz="2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A19-3D08-4D9B-AF16-7D9B6390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699080"/>
                <a:tab algn="l" pos="9398160"/>
              </a:tabLst>
            </a:pPr>
            <a:endParaRPr b="0" lang="en-US" sz="2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39F-2489-48B1-BF16-515A0B86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699080"/>
                <a:tab algn="l" pos="9398160"/>
              </a:tabLst>
            </a:pPr>
            <a:endParaRPr b="0" lang="en-US" sz="2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699080"/>
                <a:tab algn="l" pos="9398160"/>
              </a:tabLst>
            </a:pP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041-33B6-4778-9B4D-F54E5F4F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699080"/>
                <a:tab algn="l" pos="9398160"/>
              </a:tabLst>
            </a:pPr>
            <a:r>
              <a:rPr b="0" lang="en-US" sz="2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 fontScale="92000"/>
          </a:bodyPr>
          <a:p>
            <a:pPr marL="1619280" indent="-1619280">
              <a:spcBef>
                <a:spcPts val="4124"/>
              </a:spcBef>
              <a:buClr>
                <a:srgbClr val="000000"/>
              </a:buClr>
              <a:buFont typeface="Times New Roman"/>
              <a:buChar char="•"/>
              <a:tabLst>
                <a:tab algn="l" pos="4699080"/>
                <a:tab algn="l" pos="939816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2160" indent="-1350720">
              <a:spcBef>
                <a:spcPts val="4124"/>
              </a:spcBef>
              <a:buClr>
                <a:srgbClr val="000000"/>
              </a:buClr>
              <a:buFont typeface="Times New Roman"/>
              <a:buChar char="–"/>
              <a:tabLst>
                <a:tab algn="l" pos="4699080"/>
                <a:tab algn="l" pos="939816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  <a:p>
            <a:pPr lvl="2" marL="5406840" indent="-1083600">
              <a:spcBef>
                <a:spcPts val="4124"/>
              </a:spcBef>
              <a:buClr>
                <a:srgbClr val="000000"/>
              </a:buClr>
              <a:buFont typeface="Times New Roman"/>
              <a:buChar char="•"/>
              <a:tabLst>
                <a:tab algn="l" pos="4699080"/>
                <a:tab algn="l" pos="939816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  <a:p>
            <a:pPr lvl="3" marL="7569720" indent="-1082160">
              <a:spcBef>
                <a:spcPts val="4124"/>
              </a:spcBef>
              <a:buClr>
                <a:srgbClr val="000000"/>
              </a:buClr>
              <a:buFont typeface="Times New Roman"/>
              <a:buChar char="–"/>
              <a:tabLst>
                <a:tab algn="l" pos="4699080"/>
                <a:tab algn="l" pos="939816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  <a:p>
            <a:pPr lvl="4" marL="9729720" indent="-1077840">
              <a:spcBef>
                <a:spcPts val="4124"/>
              </a:spcBef>
              <a:buClr>
                <a:srgbClr val="000000"/>
              </a:buClr>
              <a:buFont typeface="Times New Roman"/>
              <a:buChar char="»"/>
              <a:tabLst>
                <a:tab algn="l" pos="4699080"/>
                <a:tab algn="l" pos="939816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  <a:p>
            <a:pPr lvl="5" marL="9729720" indent="-1077840">
              <a:spcBef>
                <a:spcPts val="4124"/>
              </a:spcBef>
              <a:buClr>
                <a:srgbClr val="000000"/>
              </a:buClr>
              <a:buFont typeface="Times New Roman"/>
              <a:buChar char="»"/>
              <a:tabLst>
                <a:tab algn="l" pos="4699080"/>
                <a:tab algn="l" pos="939816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  <a:p>
            <a:pPr lvl="6" marL="9729720" indent="-1077840">
              <a:spcBef>
                <a:spcPts val="4124"/>
              </a:spcBef>
              <a:buClr>
                <a:srgbClr val="000000"/>
              </a:buClr>
              <a:buFont typeface="Times New Roman"/>
              <a:buChar char="»"/>
              <a:tabLst>
                <a:tab algn="l" pos="4699080"/>
                <a:tab algn="l" pos="939816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92560" y="2999268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92680"/>
            <a:ext cx="13900320" cy="219384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9268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99080"/>
                <a:tab algn="l" pos="9398160"/>
              </a:tabLst>
              <a:defRPr b="0" lang="en-US" sz="7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99080"/>
                <a:tab algn="l" pos="9398160"/>
              </a:tabLst>
            </a:pPr>
            <a:fld id="{69075DD7-560A-4A4A-B0EC-0EC6D1285603}" type="slidenum"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257"/>
          <p:cNvSpPr/>
          <p:nvPr/>
        </p:nvSpPr>
        <p:spPr>
          <a:xfrm>
            <a:off x="17834040" y="28400400"/>
            <a:ext cx="673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54"/>
          <p:cNvSpPr/>
          <p:nvPr/>
        </p:nvSpPr>
        <p:spPr>
          <a:xfrm>
            <a:off x="27955800" y="29399040"/>
            <a:ext cx="2588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355"/>
          <p:cNvSpPr/>
          <p:nvPr/>
        </p:nvSpPr>
        <p:spPr>
          <a:xfrm>
            <a:off x="28035720" y="294386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357"/>
          <p:cNvSpPr/>
          <p:nvPr/>
        </p:nvSpPr>
        <p:spPr>
          <a:xfrm>
            <a:off x="28976760" y="29478240"/>
            <a:ext cx="230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361"/>
          <p:cNvSpPr/>
          <p:nvPr/>
        </p:nvSpPr>
        <p:spPr>
          <a:xfrm>
            <a:off x="25152480" y="28444680"/>
            <a:ext cx="5317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161"/>
          <p:cNvSpPr/>
          <p:nvPr/>
        </p:nvSpPr>
        <p:spPr>
          <a:xfrm>
            <a:off x="12849120" y="10306080"/>
            <a:ext cx="71640" cy="22612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176"/>
          <p:cNvSpPr/>
          <p:nvPr/>
        </p:nvSpPr>
        <p:spPr>
          <a:xfrm>
            <a:off x="741240" y="15069960"/>
            <a:ext cx="1189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208"/>
          <p:cNvSpPr/>
          <p:nvPr/>
        </p:nvSpPr>
        <p:spPr>
          <a:xfrm flipH="1">
            <a:off x="30855960" y="10352160"/>
            <a:ext cx="19080" cy="22566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215"/>
          <p:cNvSpPr/>
          <p:nvPr/>
        </p:nvSpPr>
        <p:spPr>
          <a:xfrm>
            <a:off x="16826040" y="23555160"/>
            <a:ext cx="909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0"/>
          <p:cNvSpPr/>
          <p:nvPr/>
        </p:nvSpPr>
        <p:spPr>
          <a:xfrm>
            <a:off x="19578600" y="1535256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11040" y="21059640"/>
            <a:ext cx="123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tserrat"/>
                <a:ea typeface="Times New Roman"/>
              </a:rPr>
              <a:t>Include description of the case(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: Rounded Corners 16"/>
          <p:cNvSpPr/>
          <p:nvPr/>
        </p:nvSpPr>
        <p:spPr>
          <a:xfrm>
            <a:off x="436680" y="9064800"/>
            <a:ext cx="12096720" cy="923760"/>
          </a:xfrm>
          <a:prstGeom prst="rect">
            <a:avLst/>
          </a:prstGeom>
          <a:solidFill>
            <a:srgbClr val="00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tserrat"/>
                <a:ea typeface="Times New Roman"/>
              </a:rPr>
              <a:t>Purp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: Rounded Corners 72"/>
          <p:cNvSpPr/>
          <p:nvPr/>
        </p:nvSpPr>
        <p:spPr>
          <a:xfrm>
            <a:off x="334800" y="20007360"/>
            <a:ext cx="12195360" cy="923760"/>
          </a:xfrm>
          <a:prstGeom prst="rect">
            <a:avLst/>
          </a:prstGeom>
          <a:solidFill>
            <a:srgbClr val="00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tserrat"/>
                <a:ea typeface="Times New Roman"/>
              </a:rPr>
              <a:t>Case descrip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: Rounded Corners 73"/>
          <p:cNvSpPr/>
          <p:nvPr/>
        </p:nvSpPr>
        <p:spPr>
          <a:xfrm>
            <a:off x="31249800" y="9096480"/>
            <a:ext cx="12173040" cy="923760"/>
          </a:xfrm>
          <a:prstGeom prst="rect">
            <a:avLst/>
          </a:prstGeom>
          <a:solidFill>
            <a:srgbClr val="00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tserrat"/>
                <a:ea typeface="Times New Roman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0"/>
          <p:cNvSpPr/>
          <p:nvPr/>
        </p:nvSpPr>
        <p:spPr>
          <a:xfrm>
            <a:off x="15081120" y="21120120"/>
            <a:ext cx="1244304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tserrat"/>
                <a:ea typeface="Times New Roman"/>
              </a:rPr>
              <a:t>Describe the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tserra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Montserra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5"/>
          <p:cNvSpPr/>
          <p:nvPr/>
        </p:nvSpPr>
        <p:spPr>
          <a:xfrm>
            <a:off x="31105440" y="31619880"/>
            <a:ext cx="122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77f"/>
                </a:solidFill>
                <a:latin typeface="Montserrat"/>
              </a:rPr>
              <a:t>AUTHOR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: Rounded Corners 80"/>
          <p:cNvSpPr/>
          <p:nvPr/>
        </p:nvSpPr>
        <p:spPr>
          <a:xfrm>
            <a:off x="13373280" y="20007360"/>
            <a:ext cx="17052840" cy="923760"/>
          </a:xfrm>
          <a:prstGeom prst="rect">
            <a:avLst/>
          </a:prstGeom>
          <a:solidFill>
            <a:srgbClr val="00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tserrat"/>
                <a:ea typeface="Times New Roman"/>
              </a:rPr>
              <a:t>Resul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: Rounded Corners 86"/>
          <p:cNvSpPr/>
          <p:nvPr/>
        </p:nvSpPr>
        <p:spPr>
          <a:xfrm>
            <a:off x="31239000" y="19977120"/>
            <a:ext cx="12195000" cy="923760"/>
          </a:xfrm>
          <a:prstGeom prst="rect">
            <a:avLst/>
          </a:prstGeom>
          <a:solidFill>
            <a:srgbClr val="00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tserrat"/>
                <a:ea typeface="Times New Roman"/>
              </a:rPr>
              <a:t>Clinical appl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: Rounded Corners 34"/>
          <p:cNvSpPr/>
          <p:nvPr/>
        </p:nvSpPr>
        <p:spPr>
          <a:xfrm>
            <a:off x="13306320" y="9056520"/>
            <a:ext cx="17259480" cy="963720"/>
          </a:xfrm>
          <a:prstGeom prst="rect">
            <a:avLst/>
          </a:prstGeom>
          <a:solidFill>
            <a:srgbClr val="00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tserrat"/>
                <a:ea typeface="Times New Roman"/>
              </a:rPr>
              <a:t>Metho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3373280" y="10497960"/>
            <a:ext cx="170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tserrat"/>
                <a:ea typeface="Times New Roman"/>
              </a:rPr>
              <a:t>Study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17520" y="10559880"/>
            <a:ext cx="123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tserrat"/>
                <a:ea typeface="Times New Roman"/>
              </a:rPr>
              <a:t>Include purpose of the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31227840" y="10530000"/>
            <a:ext cx="121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tserrat"/>
                <a:ea typeface="Times New Roman"/>
              </a:rPr>
              <a:t>Study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31227840" y="21307320"/>
            <a:ext cx="1219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tserrat"/>
                <a:ea typeface="Times New Roman"/>
              </a:rPr>
              <a:t>Include clinical applications of the study and / or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8" descr="Background pattern&#10;&#10;Description automatically generated"/>
          <p:cNvPicPr/>
          <p:nvPr/>
        </p:nvPicPr>
        <p:blipFill>
          <a:blip r:embed="rId1"/>
          <a:srcRect l="0" t="0" r="0" b="82175"/>
          <a:stretch/>
        </p:blipFill>
        <p:spPr>
          <a:xfrm>
            <a:off x="-60480" y="-50760"/>
            <a:ext cx="43951680" cy="5877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7035840" y="6113520"/>
            <a:ext cx="2962584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5840" rIns="195840" tIns="97920" bIns="97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59120"/>
                <a:tab algn="l" pos="3917880"/>
                <a:tab algn="l" pos="5877000"/>
                <a:tab algn="l" pos="7835760"/>
                <a:tab algn="l" pos="9794880"/>
              </a:tabLst>
            </a:pPr>
            <a:r>
              <a:rPr b="1" lang="en-US" sz="7200" spc="-1" strike="noStrike">
                <a:solidFill>
                  <a:srgbClr val="00677f"/>
                </a:solidFill>
                <a:latin typeface="Montserrat"/>
                <a:ea typeface="Times New Roman"/>
              </a:rPr>
              <a:t>This a placeholder title, so we can see how it looks at leng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59120"/>
                <a:tab algn="l" pos="3917880"/>
                <a:tab algn="l" pos="5877000"/>
                <a:tab algn="l" pos="7835760"/>
                <a:tab algn="l" pos="9794880"/>
              </a:tabLst>
            </a:pPr>
            <a:r>
              <a:rPr b="1" lang="en-US" sz="4400" spc="-1" strike="noStrike">
                <a:solidFill>
                  <a:srgbClr val="00677f"/>
                </a:solidFill>
                <a:latin typeface="Montserrat"/>
                <a:ea typeface="Times New Roman"/>
              </a:rPr>
              <a:t>Jane Doe &amp; John D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59120"/>
                <a:tab algn="l" pos="3917880"/>
                <a:tab algn="l" pos="5877000"/>
                <a:tab algn="l" pos="7835760"/>
                <a:tab algn="l" pos="9794880"/>
              </a:tabLst>
            </a:pPr>
            <a:r>
              <a:rPr b="1" lang="en-US" sz="4400" spc="-1" strike="noStrike">
                <a:solidFill>
                  <a:srgbClr val="00677f"/>
                </a:solidFill>
                <a:latin typeface="Montserrat"/>
                <a:ea typeface="Times New Roman"/>
              </a:rPr>
              <a:t>Affil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-60480" y="32365800"/>
            <a:ext cx="43951680" cy="592200"/>
          </a:xfrm>
          <a:prstGeom prst="rect">
            <a:avLst/>
          </a:prstGeom>
          <a:solidFill>
            <a:srgbClr val="83af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7T22:14:57Z</dcterms:created>
  <dc:creator>Janice Eng</dc:creator>
  <dc:description/>
  <dc:language>en-US</dc:language>
  <cp:lastModifiedBy>Claudia Carcamo</cp:lastModifiedBy>
  <cp:lastPrinted>2002-06-12T01:34:41Z</cp:lastPrinted>
  <dcterms:modified xsi:type="dcterms:W3CDTF">2023-12-19T17:54:00Z</dcterms:modified>
  <cp:revision>812</cp:revision>
  <dc:subject/>
  <dc:title>No Slide Title</dc:title>
</cp:coreProperties>
</file>